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43C-8C26-4CD3-9E59-16EA1C61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51C4-0868-4A75-8227-1A436668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23B96-E890-48D6-A9C7-34BAD6D2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26B52-BD3C-48A6-8A2C-A4687C7B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B4185-17D3-4038-9497-5504C82C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44E08-1F8C-4BEB-9D20-C4396F20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1D6D9-A8B4-4518-A2A2-67747644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36AD9-537D-4053-A274-DC0058A5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8282D-9F41-404C-AB89-0655AE0F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0EEC1-C598-4C42-8DA1-3F998DC4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A476B-B41E-42AA-9596-B521E80E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B107A-978E-4803-8959-EF6AACD0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9D7-B028-4F8F-A985-DF2053F3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32FF5-349A-46E3-86AD-715B7437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B7565-58DB-4753-B8A6-D51ADD04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4790E-3269-4DAF-B3E8-6A2DB0F9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4F813-39EE-4B2B-A200-FF8DF4E2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9D53C-DA5B-4676-B565-05517681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AABBB-A72B-4576-A7FD-0C7044E1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515DA-9283-4D1D-B4B8-76D84931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BF3F1-9BB3-44F0-BCA8-21D6A49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CE32A-9204-492A-B6F8-3A5B0719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E361E-AB51-4164-854D-03D15860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753-9057-4316-B37A-0DA2E5C4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91996-6564-41AE-9457-83849B9D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7064-34E9-45A3-AF0C-9E3D6FDF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0CEC-B58A-4674-A77D-916017F9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B06C-B021-4637-BC72-868E7C3B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0E5B-9EC7-4FD7-A33F-D3A01280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D40E-EC2D-4192-AE7D-7848239B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4365-848C-4868-8736-7750C250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B229-A73F-460B-98C2-12F47948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F44-7C6C-4DF6-A936-4BD1333C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E5CC-33C5-4DFE-BE1A-3061BFCA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6498-DB15-4A5D-99FC-C8686ADF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621C-4307-4403-8C38-7A5D808E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DB3A-5A02-46C4-99FE-35724B2C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01C8-1F9E-4EB5-AA94-6DFABC44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FD65-4588-4E58-9E0B-990759BA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CE333-79E5-4EB9-A758-E8FA99B6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372BD-B8E1-4165-8982-D5C1C082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EBE0-DAF4-485E-98F1-9C86CB11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ACA06-68DB-42BC-9C7F-A7A4D22F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5C5-FE5F-46CD-AF2D-D9D014EC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03F6C-3B1A-4ED2-AB85-7B389A3F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8A09F-5267-4CD1-B10F-02DB056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E802-73B6-453D-A964-1D84FA10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A865-4796-470E-B366-3A31840D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FFE8-6DC0-4AF8-8AA8-F0EB860C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49344-D60F-4C08-915F-4DD98F67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B212-8E70-49BF-93A9-658E96A6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A4C92-D61A-4A86-A479-5430F6A9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2610C-FBAC-431F-BAA3-C118F266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043FA-61F5-4027-A39A-18447943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213-4F03-48CD-A3CB-337B2740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F5FF0-A580-45CE-820D-C8420A5D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24010-12AC-4156-8634-ECA3B117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C1AEB-2F1F-45AB-9FAE-B014BF75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A342-F3D7-48D0-A2C2-FC357B7C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8F316-CF21-4C10-8002-F5BE3992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49864-63A6-4823-A8C1-43F98450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588AC-F06E-476C-814B-C286F99C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F259B-47C3-47A0-8F66-7256A1AC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A1523-2B5B-41B7-B51E-E9296B2E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36064-3E65-4755-BC4A-15D933B6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7C1-4531-48F0-99F4-B799DCC7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EB3D7-B0F2-4757-AAC1-3BA9E12B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F969D-FD20-4076-9624-85CFFBF9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73335-DE80-444C-941C-792488B0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5C78B-8845-4143-9892-D7054C62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1963C-53F6-49B5-9F69-132BD17E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012CE-F8AB-4D72-BBEB-6E795D61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D8173-3C19-4E4B-AF64-6488DAF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A3B74-2204-444F-853E-7C948B5A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2CD8-538B-45A6-B11B-4FCE5345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E5759-A76A-40CD-B3F7-18171A60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5ECB-D713-4BF2-A7AE-7BB423BE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FD9A3-503A-44E4-A568-2521E82E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87F2C-74D6-4FE5-854F-6658CC81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B18A4-F8F3-471F-BFC9-37D217E2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6B15F-0ECA-476F-86CB-6A3BA956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D2FBF-9117-4164-A141-116D87B2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4672C-9F04-483D-9384-31AAD784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AE8CB-27C7-4E8D-AC02-21C51520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20E44-937C-4155-AF72-952A07CE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4CC36-FE47-4058-A5A1-0BEE1086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A2E6A-7031-4ADE-A30F-5427AAE8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02A-1953-4944-A35E-3BBF8CF0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9446-314C-49C2-98DC-35E67EAE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CFC36-BE7F-4CB5-B7F5-7B6E1572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7ABB3-D31C-4E2A-846B-3BC292CF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E8B49-F9DB-43C2-8BF6-A3979237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32049-1A4F-4E32-A209-BC1CCA53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0DBE1-D0FF-4FED-B4AA-F5EF471F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91221-76AA-4DA2-80A0-677E9794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02D6F-2514-4F86-92E1-A8669D32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E1395-2CEC-4F1A-BB15-54D43AEE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50AE0-2413-4F0F-B74D-337B93C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DB42-317A-4736-8BCB-6B88F682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22076-9743-4A8D-87A5-0AFD70FF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7EA3D-1A28-447B-BBF3-6405FA7B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C6BD6-91EE-4211-BF8A-E70CB790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87048-A7C4-4EC5-B50F-014C1CBE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22DE7-3CB2-4F34-9C02-81CC8C6E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11CBD-0566-49B0-A929-ACC13731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7577C-B65C-4182-89A0-319EB72E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FD9AC-7539-4017-9B88-55856E60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B71FC-3977-412B-A298-7B610174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3E11B-CC06-4876-9670-0BA44C5A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474-1BA4-4243-9135-CECCCC26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1DEF5-8EDA-49BC-9BB0-096285B7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832AF-53EA-45BA-8689-3691410E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DAD76-1375-4045-BE44-C7974D20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03449-3BCA-4E73-8FA1-1B444ACD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CDB03-2FE6-4A35-973B-CEB4FEA9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0B25E-B908-4CED-AE20-3BD9B839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733E9-7D92-42C8-B554-BAC8B22B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90744-90FB-4174-BA1B-77F808EB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97123-3285-40B2-BF80-371E3B17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D0319-DE97-4EB3-8AA8-F78897DD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A952-81B2-4A51-BDD3-0F3FB4CD6F0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AF7E-74CC-4E49-B40A-4D08463EF3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F9B2-046B-4960-9DC1-7BAF7C3FD33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916E-0486-4648-945B-F0D835E80C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7e0b33"/>
              </a:gs>
              <a:gs pos="100000">
                <a:srgbClr val="eb829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5687-A1A7-435C-A04C-1FAE9E286BD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486400"/>
            <a:ext cx="5791320" cy="365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E197-08F3-4A08-8BE8-02BC35FD49F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2AEE-35F8-4485-9E38-B5310278729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57CA-3B33-4610-A040-900B93E285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7e0b33"/>
              </a:gs>
              <a:gs pos="100000">
                <a:srgbClr val="eb829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881B-D560-4D40-8461-94A7C3F4397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D349-957F-4878-88ED-2C1D519751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CAD9-EC04-4016-B671-F37444F55AB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387F-87F7-4C2D-9315-3ED394C9E8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7F35-AEC6-4F40-B6ED-F0A8CA3EB46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235C-EC22-4E8B-80A4-1A7EA25895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C54A-BD3E-4429-8505-398914F942FC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54BD-E8A4-4067-9C19-85CBFA74554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0E66-798D-49BA-B8EA-D940C528C5D2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18E8-03D6-43A3-A9E2-239C62735E3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4e7ed">
                  <a:alpha val="1176"/>
                </a:srgbClr>
              </a:gs>
              <a:gs pos="100000">
                <a:srgbClr val="f4e7e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9a7d7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bb1d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6c89"/>
                </a:solidFill>
                <a:latin typeface="Consolas"/>
              </a:rPr>
              <a:t>Click to edit the title text format</a:t>
            </a:r>
            <a:endParaRPr b="0" lang="en-US" sz="4200" spc="-1" strike="noStrike">
              <a:solidFill>
                <a:srgbClr val="d96c89"/>
              </a:solidFill>
              <a:latin typeface="Consola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b83d6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822240" indent="-285840">
              <a:spcBef>
                <a:spcPts val="751"/>
              </a:spcBef>
              <a:buClr>
                <a:srgbClr val="b83d68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04840" indent="-22860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371600" indent="-209520">
              <a:spcBef>
                <a:spcPts val="751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600200" indent="-209520">
              <a:spcBef>
                <a:spcPts val="751"/>
              </a:spcBef>
              <a:buClr>
                <a:srgbClr val="cd91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11DA-582A-42D3-BBE3-3AF4582C636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ylor, Yaya, Christian-Nonprofit Advocacy Group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1C45-EAB7-443E-AD56-B7FB27BBF2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962000" y="438120"/>
            <a:ext cx="6980400" cy="1274760"/>
          </a:xfrm>
          <a:prstGeom prst="rect">
            <a:avLst/>
          </a:prstGeom>
          <a:ln w="0">
            <a:noFill/>
          </a:ln>
        </p:spPr>
      </p:pic>
      <p:pic>
        <p:nvPicPr>
          <p:cNvPr id="434" name="Footer Placeholder 4" descr=""/>
          <p:cNvPicPr/>
          <p:nvPr/>
        </p:nvPicPr>
        <p:blipFill>
          <a:blip r:embed="rId2"/>
          <a:stretch/>
        </p:blipFill>
        <p:spPr>
          <a:xfrm>
            <a:off x="2060640" y="4767120"/>
            <a:ext cx="6540480" cy="1846440"/>
          </a:xfrm>
          <a:prstGeom prst="rect">
            <a:avLst/>
          </a:prstGeom>
          <a:ln w="0">
            <a:noFill/>
          </a:ln>
        </p:spPr>
      </p:pic>
      <p:pic>
        <p:nvPicPr>
          <p:cNvPr id="435" name="Date Placeholder 5" descr=""/>
          <p:cNvPicPr/>
          <p:nvPr/>
        </p:nvPicPr>
        <p:blipFill>
          <a:blip r:embed="rId3"/>
          <a:stretch/>
        </p:blipFill>
        <p:spPr>
          <a:xfrm>
            <a:off x="2097000" y="5754600"/>
            <a:ext cx="5999400" cy="1090800"/>
          </a:xfrm>
          <a:prstGeom prst="rect">
            <a:avLst/>
          </a:prstGeom>
          <a:ln w="0">
            <a:noFill/>
          </a:ln>
        </p:spPr>
      </p:pic>
      <p:sp>
        <p:nvSpPr>
          <p:cNvPr id="436" name="Slide Number Placeholder 6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E49D-F210-4D9C-A7DB-D56770B2113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4" descr="C:\Documents and Settings\hughest\Local Settings\Temporary Internet Files\Content.IE5\RZF77SXO\MPj04387960000[1].jpg"/>
          <p:cNvPicPr/>
          <p:nvPr/>
        </p:nvPicPr>
        <p:blipFill>
          <a:blip r:embed="rId4"/>
          <a:stretch/>
        </p:blipFill>
        <p:spPr>
          <a:xfrm>
            <a:off x="2736720" y="2048040"/>
            <a:ext cx="3926160" cy="3066840"/>
          </a:xfrm>
          <a:prstGeom prst="rect">
            <a:avLst/>
          </a:prstGeom>
          <a:ln w="0">
            <a:noFill/>
          </a:ln>
        </p:spPr>
      </p:pic>
      <p:pic>
        <p:nvPicPr>
          <p:cNvPr id="438" name="07a._Soundzabound_Volume_1_Disc_3_A_Little_Reggae.mp3" descr=""/>
          <p:cNvPicPr/>
          <p:nvPr/>
        </p:nvPicPr>
        <p:blipFill>
          <a:blip r:embed="rId5"/>
          <a:stretch/>
        </p:blipFill>
        <p:spPr>
          <a:xfrm>
            <a:off x="-53352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7693200" cy="1152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wish to simplify the process of using and changing copyrighted items, while working along side copy right laws.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-237960" y="4565520"/>
            <a:ext cx="2457360" cy="2530440"/>
          </a:xfrm>
          <a:prstGeom prst="rect">
            <a:avLst/>
          </a:prstGeom>
          <a:ln w="0">
            <a:noFill/>
          </a:ln>
        </p:spPr>
      </p:pic>
      <p:pic>
        <p:nvPicPr>
          <p:cNvPr id="442" name="Footer Placeholder 5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43" name="Date Placeholder 6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44" name="Slide Number Placeholder 7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43D9-F9C1-49B5-A5F7-929ED32FE9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146160" y="298440"/>
            <a:ext cx="8699400" cy="20732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609480" y="256032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support the copyright holder, businesses and the publ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support the current copyright law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also make it easier for people to use copyrighted material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7839000" y="5095800"/>
            <a:ext cx="1542960" cy="1695600"/>
          </a:xfrm>
          <a:prstGeom prst="rect">
            <a:avLst/>
          </a:prstGeom>
          <a:ln w="0">
            <a:noFill/>
          </a:ln>
        </p:spPr>
      </p:pic>
      <p:pic>
        <p:nvPicPr>
          <p:cNvPr id="448" name="Footer Placeholder 4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49" name="Date Placeholder 5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50" name="Slide Number Placeholder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D06B-6FB4-48A5-AC0D-23596E331D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trips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69280" cy="14079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change copyright laws by using federal government court systems or making legal document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2809800" y="3724200"/>
            <a:ext cx="3067200" cy="3067200"/>
          </a:xfrm>
          <a:prstGeom prst="rect">
            <a:avLst/>
          </a:prstGeom>
          <a:ln w="0">
            <a:noFill/>
          </a:ln>
        </p:spPr>
      </p:pic>
      <p:pic>
        <p:nvPicPr>
          <p:cNvPr id="454" name="Footer Placeholder 4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55" name="Date Placeholder 5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56" name="Slide Number Placeholder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39CC-FB69-4B90-97C8-4075E6C135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y want to continue the balance and practice of the internet and digital technologies continue to empower the publ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2"/>
          <a:stretch/>
        </p:blipFill>
        <p:spPr>
          <a:xfrm>
            <a:off x="2889360" y="3498840"/>
            <a:ext cx="2987640" cy="2762280"/>
          </a:xfrm>
          <a:prstGeom prst="rect">
            <a:avLst/>
          </a:prstGeom>
          <a:ln w="0">
            <a:noFill/>
          </a:ln>
        </p:spPr>
      </p:pic>
      <p:pic>
        <p:nvPicPr>
          <p:cNvPr id="460" name="Footer Placeholder 4" descr=""/>
          <p:cNvPicPr/>
          <p:nvPr/>
        </p:nvPicPr>
        <p:blipFill>
          <a:blip r:embed="rId3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61" name="Date Placeholder 5" descr=""/>
          <p:cNvPicPr/>
          <p:nvPr/>
        </p:nvPicPr>
        <p:blipFill>
          <a:blip r:embed="rId4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62" name="Slide Number Placeholder 6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31CB-3A91-444B-B97C-CCC1BDD8C7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For more information visit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eff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creativecommons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freeculture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futureofmusic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defectivebydesign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indent="36360">
              <a:spcBef>
                <a:spcPts val="751"/>
              </a:spcBef>
              <a:buClr>
                <a:srgbClr val="b83d68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3d68"/>
                </a:solidFill>
                <a:latin typeface="Corbel"/>
              </a:rPr>
              <a:t>www.copyrightalliance.or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5" name="Footer Placeholder 3" descr=""/>
          <p:cNvPicPr/>
          <p:nvPr/>
        </p:nvPicPr>
        <p:blipFill>
          <a:blip r:embed="rId2"/>
          <a:stretch/>
        </p:blipFill>
        <p:spPr>
          <a:xfrm>
            <a:off x="847800" y="6119640"/>
            <a:ext cx="4321080" cy="914400"/>
          </a:xfrm>
          <a:prstGeom prst="rect">
            <a:avLst/>
          </a:prstGeom>
          <a:ln w="0">
            <a:noFill/>
          </a:ln>
        </p:spPr>
      </p:pic>
      <p:pic>
        <p:nvPicPr>
          <p:cNvPr id="466" name="Date Placeholder 4" descr=""/>
          <p:cNvPicPr/>
          <p:nvPr/>
        </p:nvPicPr>
        <p:blipFill>
          <a:blip r:embed="rId3"/>
          <a:stretch/>
        </p:blipFill>
        <p:spPr>
          <a:xfrm>
            <a:off x="4797360" y="6168960"/>
            <a:ext cx="2255760" cy="817560"/>
          </a:xfrm>
          <a:prstGeom prst="rect">
            <a:avLst/>
          </a:prstGeom>
          <a:ln w="0">
            <a:noFill/>
          </a:ln>
        </p:spPr>
      </p:pic>
      <p:sp>
        <p:nvSpPr>
          <p:cNvPr id="467" name="Slide Number Placeholder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F349-3719-47BA-BE52-36A5FDDA91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5:37:42Z</dcterms:created>
  <dc:creator>user</dc:creator>
  <dc:description/>
  <dc:language>en-US</dc:language>
  <cp:lastModifiedBy>user</cp:lastModifiedBy>
  <dcterms:modified xsi:type="dcterms:W3CDTF">2010-02-05T15:41:29Z</dcterms:modified>
  <cp:revision>29</cp:revision>
  <dc:subject/>
  <dc:title>Nonprofit</dc:title>
</cp:coreProperties>
</file>